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A9D0-B6DE-4A18-A277-CD5F3889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C75A-C9B3-4BEA-8ADB-23C9593A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49B1-FBB1-412A-8513-5D2225CE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39A2-ECC4-4C0E-9C74-A179ABBB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556A-C6B7-43E9-A7F8-21E2AAF9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4458-FDC0-4308-9B56-35B8D7D2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D979-8C19-40D3-9094-D8A218C5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D927-533A-4EE6-B895-1A2B11A0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8D7B-722F-4D7F-B5DB-1918AE0B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141A-8C8E-4383-A98B-DA99B980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EE88-07FE-4306-B1AD-2704F0BA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8A30-F022-4B26-8108-18487E6A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C7E4-ED80-4055-B9D7-4AA8A9E2F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hyperlink" Target="file:///../../../Program%20Files/Vocal%20Innovations/Voiceprint/vp.exe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sthma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886200"/>
            <a:ext cx="83059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ent recurrent exacerbations of asthma and minimize the need for ED visits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pitaliz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ent progressive loss of lung function; for children, prevent reduced lung grow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optimal pharmacotherapy with minimal or no adverse eff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2209680"/>
            <a:ext cx="8076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reduce the number of ED visits for children with asthma by integrating commonly available inexpensive technologies”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2971800" cy="2146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1257120" cy="933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696080" y="1752480"/>
            <a:ext cx="809640" cy="1133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3372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2940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429000" y="3657600"/>
            <a:ext cx="2819520" cy="2658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524720" y="3733920"/>
            <a:ext cx="1619280" cy="2057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686800" y="31240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400800" y="4648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228600" y="4038480"/>
            <a:ext cx="2057400" cy="1538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H="1">
            <a:off x="2590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4495680" y="5562720"/>
            <a:ext cx="930240" cy="129528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rId8"/>
          </p:cNvPr>
          <p:cNvSpPr/>
          <p:nvPr/>
        </p:nvSpPr>
        <p:spPr>
          <a:xfrm>
            <a:off x="17524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ing Wheez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05120" y="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Johny Hub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343400" y="63244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05120" y="609480"/>
            <a:ext cx="259056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ge: 5 years 1 mon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ex: 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Height: 72 cm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eight: 96 l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57200"/>
            <a:ext cx="3809880" cy="13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ateg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Severity:  Persistent Sev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Control: Poor Contr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057400"/>
            <a:ext cx="289548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2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0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/ FV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–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80988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ate: 08/02/07                 Time: 11:00 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2514600"/>
            <a:ext cx="243864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 / 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of 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380988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ate: 12/03/07                 Time: 3:00 p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51814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k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17220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ate: 09/15/07                 Time: 2:00 p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51055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617220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ate: 12/04/07                 Time: 8:00 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7696080" y="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04:40:38Z</dcterms:created>
  <dc:creator>Jiten Chhabra </dc:creator>
  <dc:description/>
  <dc:language>en-US</dc:language>
  <cp:lastModifiedBy>Jiten Chhabra </cp:lastModifiedBy>
  <dcterms:modified xsi:type="dcterms:W3CDTF">2007-12-12T04:40:44Z</dcterms:modified>
  <cp:revision>1</cp:revision>
  <dc:subject/>
  <dc:title>Asthma Control</dc:title>
</cp:coreProperties>
</file>